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360" y="-9834840"/>
            <a:ext cx="360" cy="2105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F70-1626-476E-BED5-32EFA135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205D-C37D-4B7F-A69B-0E3B0A94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845-BC62-4809-97D2-0426E891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4B0E-0409-4B3A-B572-26192181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7642-47D7-480D-98AE-40D3FC0A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CF9-3B00-4578-B3E7-B28752D7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A1C-2192-49BA-B7CE-CEA0BC01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08A5-A661-4DD0-9915-FA88369A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55600"/>
            <a:ext cx="79981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5985-89FA-47EB-ACFF-2053CB10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F10C-6198-4376-AA39-197F9BF5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E17-C150-446A-BAF0-9C11B5C9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DA5-DA0B-4EA5-862F-EBA5B34C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1760" indent="-3938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3873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0880" indent="-39852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82A168-7328-4F34-92A3-60BF32AF2623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39640" y="2708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39640" y="1714680"/>
            <a:ext cx="8001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9966"/>
                </a:solidFill>
                <a:latin typeface="Verdana"/>
              </a:rPr>
              <a:t>Conteúdos, Orientação e Objectivos do Projec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"/>
          <p:cNvSpPr/>
          <p:nvPr/>
        </p:nvSpPr>
        <p:spPr>
          <a:xfrm>
            <a:off x="947880" y="387360"/>
            <a:ext cx="6638760" cy="7030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Árvore de obje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056040" y="2114640"/>
            <a:ext cx="1609560" cy="623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umento d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tividad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328760" y="1324080"/>
            <a:ext cx="160956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ria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íquid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 empre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087880" y="1324080"/>
            <a:ext cx="212580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mento 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ndim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r capi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117440" y="2847960"/>
            <a:ext cx="1913040" cy="73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ctores tradicion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 economia loc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nverti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782960" y="2805120"/>
            <a:ext cx="191484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poio à criação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vas empres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836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07196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291280" y="3749760"/>
            <a:ext cx="79668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6408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1836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407196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6408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59007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68151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6"/>
          <p:cNvSpPr/>
          <p:nvPr/>
        </p:nvSpPr>
        <p:spPr>
          <a:xfrm>
            <a:off x="2946240" y="1687680"/>
            <a:ext cx="50832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7"/>
          <p:cNvSpPr/>
          <p:nvPr/>
        </p:nvSpPr>
        <p:spPr>
          <a:xfrm flipH="1">
            <a:off x="4062240" y="1741320"/>
            <a:ext cx="1019520" cy="36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8"/>
          <p:cNvSpPr/>
          <p:nvPr/>
        </p:nvSpPr>
        <p:spPr>
          <a:xfrm flipV="1">
            <a:off x="2031840" y="2425320"/>
            <a:ext cx="1016280" cy="42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4673520" y="2373480"/>
            <a:ext cx="111780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20"/>
          <p:cNvSpPr/>
          <p:nvPr/>
        </p:nvSpPr>
        <p:spPr>
          <a:xfrm>
            <a:off x="2031840" y="358776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2133720" y="3587760"/>
            <a:ext cx="1440" cy="15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22"/>
          <p:cNvSpPr/>
          <p:nvPr/>
        </p:nvSpPr>
        <p:spPr>
          <a:xfrm>
            <a:off x="5689440" y="3533760"/>
            <a:ext cx="1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3"/>
          <p:cNvSpPr/>
          <p:nvPr/>
        </p:nvSpPr>
        <p:spPr>
          <a:xfrm flipH="1">
            <a:off x="4671720" y="3533760"/>
            <a:ext cx="307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4"/>
          <p:cNvSpPr/>
          <p:nvPr/>
        </p:nvSpPr>
        <p:spPr>
          <a:xfrm>
            <a:off x="6400800" y="3533760"/>
            <a:ext cx="40644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5"/>
          <p:cNvSpPr/>
          <p:nvPr/>
        </p:nvSpPr>
        <p:spPr>
          <a:xfrm>
            <a:off x="2235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6"/>
          <p:cNvSpPr/>
          <p:nvPr/>
        </p:nvSpPr>
        <p:spPr>
          <a:xfrm>
            <a:off x="2641680" y="4219560"/>
            <a:ext cx="182880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7"/>
          <p:cNvSpPr/>
          <p:nvPr/>
        </p:nvSpPr>
        <p:spPr>
          <a:xfrm>
            <a:off x="6807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28"/>
          <p:cNvSpPr/>
          <p:nvPr/>
        </p:nvSpPr>
        <p:spPr>
          <a:xfrm flipH="1">
            <a:off x="6297480" y="5170320"/>
            <a:ext cx="30816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9"/>
          <p:cNvSpPr/>
          <p:nvPr/>
        </p:nvSpPr>
        <p:spPr>
          <a:xfrm>
            <a:off x="6807240" y="5170320"/>
            <a:ext cx="6094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1"/>
          <p:cNvSpPr/>
          <p:nvPr/>
        </p:nvSpPr>
        <p:spPr>
          <a:xfrm>
            <a:off x="439560" y="387360"/>
            <a:ext cx="8061480" cy="8082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Árvore de objectivos (após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orização e definição da estratégia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056040" y="2114640"/>
            <a:ext cx="1609560" cy="623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umento d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tividad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328760" y="1324080"/>
            <a:ext cx="160956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ria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íquida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mpre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5087880" y="1324080"/>
            <a:ext cx="2125800" cy="72864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117440" y="2847960"/>
            <a:ext cx="1913040" cy="730440"/>
          </a:xfrm>
          <a:prstGeom prst="rect">
            <a:avLst/>
          </a:prstGeom>
          <a:solidFill>
            <a:srgbClr val="00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4782960" y="2805120"/>
            <a:ext cx="191484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poio à criação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vas empres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836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07196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5291280" y="3749760"/>
            <a:ext cx="79668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6408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836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407196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6408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59007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68151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2946240" y="1687680"/>
            <a:ext cx="50832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7"/>
          <p:cNvSpPr/>
          <p:nvPr/>
        </p:nvSpPr>
        <p:spPr>
          <a:xfrm flipH="1">
            <a:off x="4062240" y="1741320"/>
            <a:ext cx="1019520" cy="36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 flipV="1">
            <a:off x="2031840" y="2425320"/>
            <a:ext cx="1016280" cy="42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9"/>
          <p:cNvSpPr/>
          <p:nvPr/>
        </p:nvSpPr>
        <p:spPr>
          <a:xfrm>
            <a:off x="4673520" y="2373480"/>
            <a:ext cx="111780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2031840" y="358776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2133720" y="3587760"/>
            <a:ext cx="1440" cy="15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5689440" y="3533760"/>
            <a:ext cx="1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3"/>
          <p:cNvSpPr/>
          <p:nvPr/>
        </p:nvSpPr>
        <p:spPr>
          <a:xfrm flipH="1">
            <a:off x="4671720" y="3533760"/>
            <a:ext cx="307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6400800" y="3533760"/>
            <a:ext cx="40644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5"/>
          <p:cNvSpPr/>
          <p:nvPr/>
        </p:nvSpPr>
        <p:spPr>
          <a:xfrm>
            <a:off x="2235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6"/>
          <p:cNvSpPr/>
          <p:nvPr/>
        </p:nvSpPr>
        <p:spPr>
          <a:xfrm>
            <a:off x="2641680" y="4219560"/>
            <a:ext cx="182880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7"/>
          <p:cNvSpPr/>
          <p:nvPr/>
        </p:nvSpPr>
        <p:spPr>
          <a:xfrm>
            <a:off x="6807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28"/>
          <p:cNvSpPr/>
          <p:nvPr/>
        </p:nvSpPr>
        <p:spPr>
          <a:xfrm flipH="1">
            <a:off x="6297480" y="5170320"/>
            <a:ext cx="30816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29"/>
          <p:cNvSpPr/>
          <p:nvPr/>
        </p:nvSpPr>
        <p:spPr>
          <a:xfrm>
            <a:off x="6807240" y="5170320"/>
            <a:ext cx="6094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Uma vez concluída com sucesso a fase de diagnóstico, com o desenvolvimento de objectivos gerais e específicos, a utilização da matriz do enquadramento lógico assegura um plano coerente e transparente que já incorpora os indicadores para a monitorização e a avaliação, tendo também em consideração o ambiente externo do projecto. È também uma visualização conveniente da estrutura interna do projecto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947880" y="228600"/>
            <a:ext cx="7146720" cy="11253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atriz do quadro lógico o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riz de planeamento de projec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2"/>
          <p:cNvSpPr/>
          <p:nvPr/>
        </p:nvSpPr>
        <p:spPr>
          <a:xfrm>
            <a:off x="723960" y="1981080"/>
            <a:ext cx="76658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723960" y="1981080"/>
            <a:ext cx="7665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723960" y="1981080"/>
            <a:ext cx="1440" cy="3657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723960" y="1981080"/>
            <a:ext cx="126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4725360" y="2008080"/>
            <a:ext cx="7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ios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6319800" y="2008080"/>
            <a:ext cx="85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póte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804960" y="2230560"/>
            <a:ext cx="8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scriçã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3186000" y="2230560"/>
            <a:ext cx="100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4721040" y="2230560"/>
            <a:ext cx="95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erificaçã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6319800" y="2230560"/>
            <a:ext cx="58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is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765360" y="2470320"/>
            <a:ext cx="124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ivo ger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792360" y="2690640"/>
            <a:ext cx="169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desenvolvimento ou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806040" y="2911320"/>
            <a:ext cx="53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lobal)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766800" y="3371760"/>
            <a:ext cx="100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ivo(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799920" y="3594240"/>
            <a:ext cx="10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pecífico(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7"/>
          <p:cNvSpPr/>
          <p:nvPr/>
        </p:nvSpPr>
        <p:spPr>
          <a:xfrm>
            <a:off x="801720" y="381492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imediatos)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8"/>
          <p:cNvSpPr/>
          <p:nvPr/>
        </p:nvSpPr>
        <p:spPr>
          <a:xfrm>
            <a:off x="801720" y="42750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768960" y="4735440"/>
            <a:ext cx="91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804960" y="519588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1"/>
          <p:cNvSpPr/>
          <p:nvPr/>
        </p:nvSpPr>
        <p:spPr>
          <a:xfrm flipV="1">
            <a:off x="31050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2"/>
          <p:cNvSpPr/>
          <p:nvPr/>
        </p:nvSpPr>
        <p:spPr>
          <a:xfrm>
            <a:off x="3105000" y="1971720"/>
            <a:ext cx="12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3"/>
          <p:cNvSpPr/>
          <p:nvPr/>
        </p:nvSpPr>
        <p:spPr>
          <a:xfrm>
            <a:off x="723960" y="1981080"/>
            <a:ext cx="23702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723960" y="1981080"/>
            <a:ext cx="23702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3094200" y="1971720"/>
            <a:ext cx="36360" cy="2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26"/>
          <p:cNvSpPr/>
          <p:nvPr/>
        </p:nvSpPr>
        <p:spPr>
          <a:xfrm>
            <a:off x="723960" y="2211480"/>
            <a:ext cx="23702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7"/>
          <p:cNvSpPr/>
          <p:nvPr/>
        </p:nvSpPr>
        <p:spPr>
          <a:xfrm>
            <a:off x="723960" y="2211480"/>
            <a:ext cx="23702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28"/>
          <p:cNvSpPr/>
          <p:nvPr/>
        </p:nvSpPr>
        <p:spPr>
          <a:xfrm flipV="1">
            <a:off x="464184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9"/>
          <p:cNvSpPr/>
          <p:nvPr/>
        </p:nvSpPr>
        <p:spPr>
          <a:xfrm>
            <a:off x="4641840" y="197172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0"/>
          <p:cNvSpPr/>
          <p:nvPr/>
        </p:nvSpPr>
        <p:spPr>
          <a:xfrm>
            <a:off x="4629240" y="2000160"/>
            <a:ext cx="3636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1"/>
          <p:cNvSpPr/>
          <p:nvPr/>
        </p:nvSpPr>
        <p:spPr>
          <a:xfrm>
            <a:off x="3130560" y="221148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32"/>
          <p:cNvSpPr/>
          <p:nvPr/>
        </p:nvSpPr>
        <p:spPr>
          <a:xfrm>
            <a:off x="3130560" y="221148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3"/>
          <p:cNvSpPr/>
          <p:nvPr/>
        </p:nvSpPr>
        <p:spPr>
          <a:xfrm flipV="1">
            <a:off x="623736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4"/>
          <p:cNvSpPr/>
          <p:nvPr/>
        </p:nvSpPr>
        <p:spPr>
          <a:xfrm>
            <a:off x="623736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6226200" y="2000160"/>
            <a:ext cx="349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6"/>
          <p:cNvSpPr/>
          <p:nvPr/>
        </p:nvSpPr>
        <p:spPr>
          <a:xfrm>
            <a:off x="4665600" y="221148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4665600" y="221148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8"/>
          <p:cNvSpPr/>
          <p:nvPr/>
        </p:nvSpPr>
        <p:spPr>
          <a:xfrm flipV="1">
            <a:off x="83772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39"/>
          <p:cNvSpPr/>
          <p:nvPr/>
        </p:nvSpPr>
        <p:spPr>
          <a:xfrm>
            <a:off x="837720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40"/>
          <p:cNvSpPr/>
          <p:nvPr/>
        </p:nvSpPr>
        <p:spPr>
          <a:xfrm>
            <a:off x="8366040" y="2000160"/>
            <a:ext cx="367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41"/>
          <p:cNvSpPr/>
          <p:nvPr/>
        </p:nvSpPr>
        <p:spPr>
          <a:xfrm>
            <a:off x="711360" y="2432160"/>
            <a:ext cx="23828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42"/>
          <p:cNvSpPr/>
          <p:nvPr/>
        </p:nvSpPr>
        <p:spPr>
          <a:xfrm>
            <a:off x="723960" y="1981080"/>
            <a:ext cx="1440" cy="451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3"/>
          <p:cNvSpPr/>
          <p:nvPr/>
        </p:nvSpPr>
        <p:spPr>
          <a:xfrm>
            <a:off x="723960" y="1981080"/>
            <a:ext cx="12600" cy="45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44"/>
          <p:cNvSpPr/>
          <p:nvPr/>
        </p:nvSpPr>
        <p:spPr>
          <a:xfrm>
            <a:off x="747720" y="311472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45"/>
          <p:cNvSpPr/>
          <p:nvPr/>
        </p:nvSpPr>
        <p:spPr>
          <a:xfrm>
            <a:off x="747720" y="311472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46"/>
          <p:cNvSpPr/>
          <p:nvPr/>
        </p:nvSpPr>
        <p:spPr>
          <a:xfrm>
            <a:off x="3130560" y="311472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47"/>
          <p:cNvSpPr/>
          <p:nvPr/>
        </p:nvSpPr>
        <p:spPr>
          <a:xfrm>
            <a:off x="3130560" y="311472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48"/>
          <p:cNvSpPr/>
          <p:nvPr/>
        </p:nvSpPr>
        <p:spPr>
          <a:xfrm>
            <a:off x="4665600" y="311472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49"/>
          <p:cNvSpPr/>
          <p:nvPr/>
        </p:nvSpPr>
        <p:spPr>
          <a:xfrm>
            <a:off x="4665600" y="311472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50"/>
          <p:cNvSpPr/>
          <p:nvPr/>
        </p:nvSpPr>
        <p:spPr>
          <a:xfrm>
            <a:off x="747720" y="401796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51"/>
          <p:cNvSpPr/>
          <p:nvPr/>
        </p:nvSpPr>
        <p:spPr>
          <a:xfrm>
            <a:off x="747720" y="4017960"/>
            <a:ext cx="23464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52"/>
          <p:cNvSpPr/>
          <p:nvPr/>
        </p:nvSpPr>
        <p:spPr>
          <a:xfrm>
            <a:off x="3130560" y="401796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53"/>
          <p:cNvSpPr/>
          <p:nvPr/>
        </p:nvSpPr>
        <p:spPr>
          <a:xfrm>
            <a:off x="3130560" y="4017960"/>
            <a:ext cx="14986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54"/>
          <p:cNvSpPr/>
          <p:nvPr/>
        </p:nvSpPr>
        <p:spPr>
          <a:xfrm>
            <a:off x="4665600" y="401796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55"/>
          <p:cNvSpPr/>
          <p:nvPr/>
        </p:nvSpPr>
        <p:spPr>
          <a:xfrm>
            <a:off x="4665600" y="4017960"/>
            <a:ext cx="156060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56"/>
          <p:cNvSpPr/>
          <p:nvPr/>
        </p:nvSpPr>
        <p:spPr>
          <a:xfrm>
            <a:off x="747720" y="447840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7"/>
          <p:cNvSpPr/>
          <p:nvPr/>
        </p:nvSpPr>
        <p:spPr>
          <a:xfrm>
            <a:off x="747720" y="447840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58"/>
          <p:cNvSpPr/>
          <p:nvPr/>
        </p:nvSpPr>
        <p:spPr>
          <a:xfrm>
            <a:off x="3130560" y="447840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59"/>
          <p:cNvSpPr/>
          <p:nvPr/>
        </p:nvSpPr>
        <p:spPr>
          <a:xfrm>
            <a:off x="3130560" y="447840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60"/>
          <p:cNvSpPr/>
          <p:nvPr/>
        </p:nvSpPr>
        <p:spPr>
          <a:xfrm>
            <a:off x="4665600" y="447840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61"/>
          <p:cNvSpPr/>
          <p:nvPr/>
        </p:nvSpPr>
        <p:spPr>
          <a:xfrm>
            <a:off x="4665600" y="447840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62"/>
          <p:cNvSpPr/>
          <p:nvPr/>
        </p:nvSpPr>
        <p:spPr>
          <a:xfrm>
            <a:off x="747720" y="493884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63"/>
          <p:cNvSpPr/>
          <p:nvPr/>
        </p:nvSpPr>
        <p:spPr>
          <a:xfrm>
            <a:off x="747720" y="493884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64"/>
          <p:cNvSpPr/>
          <p:nvPr/>
        </p:nvSpPr>
        <p:spPr>
          <a:xfrm>
            <a:off x="3130560" y="493884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65"/>
          <p:cNvSpPr/>
          <p:nvPr/>
        </p:nvSpPr>
        <p:spPr>
          <a:xfrm>
            <a:off x="3143160" y="4786200"/>
            <a:ext cx="14986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400" spc="-1" strike="noStrike">
                <a:solidFill>
                  <a:srgbClr val="0d0d0d"/>
                </a:solidFill>
                <a:latin typeface="Arial"/>
              </a:rPr>
              <a:t>Orçamen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6"/>
          <p:cNvSpPr/>
          <p:nvPr/>
        </p:nvSpPr>
        <p:spPr>
          <a:xfrm>
            <a:off x="4665600" y="493884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7"/>
          <p:cNvSpPr/>
          <p:nvPr/>
        </p:nvSpPr>
        <p:spPr>
          <a:xfrm>
            <a:off x="4665600" y="493884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68"/>
          <p:cNvSpPr/>
          <p:nvPr/>
        </p:nvSpPr>
        <p:spPr>
          <a:xfrm>
            <a:off x="747720" y="5398920"/>
            <a:ext cx="23464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69"/>
          <p:cNvSpPr/>
          <p:nvPr/>
        </p:nvSpPr>
        <p:spPr>
          <a:xfrm>
            <a:off x="747720" y="5398920"/>
            <a:ext cx="2346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70"/>
          <p:cNvSpPr/>
          <p:nvPr/>
        </p:nvSpPr>
        <p:spPr>
          <a:xfrm>
            <a:off x="3130560" y="5398920"/>
            <a:ext cx="14986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71"/>
          <p:cNvSpPr/>
          <p:nvPr/>
        </p:nvSpPr>
        <p:spPr>
          <a:xfrm>
            <a:off x="3130560" y="5398920"/>
            <a:ext cx="14986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72"/>
          <p:cNvSpPr/>
          <p:nvPr/>
        </p:nvSpPr>
        <p:spPr>
          <a:xfrm>
            <a:off x="4665600" y="5398920"/>
            <a:ext cx="1560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73"/>
          <p:cNvSpPr/>
          <p:nvPr/>
        </p:nvSpPr>
        <p:spPr>
          <a:xfrm>
            <a:off x="4665600" y="5398920"/>
            <a:ext cx="15606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74"/>
          <p:cNvSpPr/>
          <p:nvPr/>
        </p:nvSpPr>
        <p:spPr>
          <a:xfrm>
            <a:off x="711360" y="2460600"/>
            <a:ext cx="36360" cy="318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75"/>
          <p:cNvSpPr/>
          <p:nvPr/>
        </p:nvSpPr>
        <p:spPr>
          <a:xfrm>
            <a:off x="3094200" y="2211480"/>
            <a:ext cx="3636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76"/>
          <p:cNvSpPr/>
          <p:nvPr/>
        </p:nvSpPr>
        <p:spPr>
          <a:xfrm>
            <a:off x="4629240" y="2211480"/>
            <a:ext cx="3636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77"/>
          <p:cNvSpPr/>
          <p:nvPr/>
        </p:nvSpPr>
        <p:spPr>
          <a:xfrm>
            <a:off x="6226200" y="2211480"/>
            <a:ext cx="349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8"/>
          <p:cNvSpPr/>
          <p:nvPr/>
        </p:nvSpPr>
        <p:spPr>
          <a:xfrm>
            <a:off x="8366040" y="2211480"/>
            <a:ext cx="367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79"/>
          <p:cNvSpPr/>
          <p:nvPr/>
        </p:nvSpPr>
        <p:spPr>
          <a:xfrm>
            <a:off x="3130560" y="197172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80"/>
          <p:cNvSpPr/>
          <p:nvPr/>
        </p:nvSpPr>
        <p:spPr>
          <a:xfrm>
            <a:off x="6261120" y="221148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81"/>
          <p:cNvSpPr/>
          <p:nvPr/>
        </p:nvSpPr>
        <p:spPr>
          <a:xfrm>
            <a:off x="6261120" y="221148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82"/>
          <p:cNvSpPr/>
          <p:nvPr/>
        </p:nvSpPr>
        <p:spPr>
          <a:xfrm>
            <a:off x="3130560" y="243216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83"/>
          <p:cNvSpPr/>
          <p:nvPr/>
        </p:nvSpPr>
        <p:spPr>
          <a:xfrm>
            <a:off x="6261120" y="311472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84"/>
          <p:cNvSpPr/>
          <p:nvPr/>
        </p:nvSpPr>
        <p:spPr>
          <a:xfrm>
            <a:off x="6261120" y="311472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85"/>
          <p:cNvSpPr/>
          <p:nvPr/>
        </p:nvSpPr>
        <p:spPr>
          <a:xfrm>
            <a:off x="747720" y="333540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86"/>
          <p:cNvSpPr/>
          <p:nvPr/>
        </p:nvSpPr>
        <p:spPr>
          <a:xfrm>
            <a:off x="6261120" y="401796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87"/>
          <p:cNvSpPr/>
          <p:nvPr/>
        </p:nvSpPr>
        <p:spPr>
          <a:xfrm>
            <a:off x="6261120" y="4017960"/>
            <a:ext cx="21049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88"/>
          <p:cNvSpPr/>
          <p:nvPr/>
        </p:nvSpPr>
        <p:spPr>
          <a:xfrm>
            <a:off x="747720" y="423864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89"/>
          <p:cNvSpPr/>
          <p:nvPr/>
        </p:nvSpPr>
        <p:spPr>
          <a:xfrm>
            <a:off x="6261120" y="447840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90"/>
          <p:cNvSpPr/>
          <p:nvPr/>
        </p:nvSpPr>
        <p:spPr>
          <a:xfrm>
            <a:off x="6261120" y="447840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91"/>
          <p:cNvSpPr/>
          <p:nvPr/>
        </p:nvSpPr>
        <p:spPr>
          <a:xfrm>
            <a:off x="747720" y="469908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92"/>
          <p:cNvSpPr/>
          <p:nvPr/>
        </p:nvSpPr>
        <p:spPr>
          <a:xfrm>
            <a:off x="6261120" y="493884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93"/>
          <p:cNvSpPr/>
          <p:nvPr/>
        </p:nvSpPr>
        <p:spPr>
          <a:xfrm>
            <a:off x="6261120" y="493884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94"/>
          <p:cNvSpPr/>
          <p:nvPr/>
        </p:nvSpPr>
        <p:spPr>
          <a:xfrm>
            <a:off x="747720" y="515952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95"/>
          <p:cNvSpPr/>
          <p:nvPr/>
        </p:nvSpPr>
        <p:spPr>
          <a:xfrm>
            <a:off x="6261120" y="5398920"/>
            <a:ext cx="210492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96"/>
          <p:cNvSpPr/>
          <p:nvPr/>
        </p:nvSpPr>
        <p:spPr>
          <a:xfrm>
            <a:off x="6261120" y="5398920"/>
            <a:ext cx="2104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97"/>
          <p:cNvSpPr/>
          <p:nvPr/>
        </p:nvSpPr>
        <p:spPr>
          <a:xfrm>
            <a:off x="747720" y="5619600"/>
            <a:ext cx="765504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BJECTIVO GERAL OU FINALIDADE (de desenvolvimento ou global): o objectivo a longo prazo para o qual o projecto vai contribuir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BJECTIVOS ESPECÍFICOS (imediatos): a alteração ou as alterações que o projecto vai promover se for implementado com êxi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vem ser específicos, mensuráveis, precisos, realistas e alcançáveis no temp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Formulam-se usando verbos claros e concludentes, no infinito: “Aumentar a capacidade técnica das estruturas de apoio à criação de PME’s” (Programa DelNet - CIF/OIT / A.Vidal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RESULTADOS OU METAS: são o produto directo, tangível e específico das actividades do programa ou projecto; não se deve confundir resultados com objectiv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Formulação aconselhada: “Uma rede descentralizada de ninhos de empresas estabelecida e plenamente operacional” (Programa DelNet - CIF/OIT / A.Vidal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CTIVIDADES: Tarefas que, passo a passo, há que efectuar para produzir os resultados; não se deve confundir actividades com resultados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Formulação aconselhada: “Efectuar os estudos de viabilidade” (Programa DelNet - CIF/OIT / A.Vidal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RECURSOS: Meios necessários e suficientes para implementar as actividades do programa ou projecto; Incluem recursos humanos e institucionais, equipamento, materiais, fundos de investimento, etc.; Não se deve confundir com o orçamen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DICADORES: critérios de êxito (realísticos e mensuráveis) que permitirão a monitorização e avaliação dos resultados do projecto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Formulação aconselhada: “Pelo menos 30% de desempregados encontraram trabalho nas PME’s criadas” (Programa DelNet - CIF/OIT / A.Vidal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DICADORES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 OUTPUT (BENS E SERVIÇOS IMEDIATOS CRIADOS PELO PROJECTO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 RESULTADOS (MUDANÇAS ESPERADAS DENTRO DO GRUPO ALVO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 IMPACTE (INFLUÊNCIA SUSTENTÁVEL QUE SE ESPERA DO PROJECTO SOBRE O AMBIENTE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 PROCESS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 INPUT (RECURSOS USADOS PELO PROJECTO)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MEIOS DE VERIFICAÇÃO: fontes de informação/ métodos para verificar os indicador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studo do Censo de desempregados do município e da delegação local do Ministério do Trabalho”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 (Programa DelNet - CIF/OIT / A.Vidal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FACTORES EXTERNOS (PRESSUPOSTOS / HIPÓTESES/ RISCOS)</a:t>
            </a:r>
            <a:r>
              <a:rPr b="0" lang="ar-SA" sz="15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: situações, acontecimentos, condições, decisões, etc. que é necessário que ocorram para que o projecto tenha êxito, mas que estão fora do controle do próprio projecto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A tendência para a estabilização das taxas de juro confirma-se durante o período de implementação do programa ou projecto” (Programa DelNet - CIF/OIT / A.Vidal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DOIS MODOS DE LEITUR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LÓGICA VERTICAL (DE INTERVENÇÃO DO PROJECTO)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: explica o projecto (a sua concepção básica) e as razões porque é efectuado; objectivo geral e específicos, resultados, actividades e recurso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LÓGICA HORIZONTAL: avalia o grau de sucesso do projecto com uma série de provas objectivas e analíticas; indicadores (quanto?, quando?, o quê?), meios de verificação e factores externos (pressuposto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nteúdos, orientação e objectivos do projec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teúdos e descrição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escrição e título do projec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efinição geral e finalidade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nteúdos e acções principais, complementares  e derivadas a realizar 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Esquema geral do project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1"/>
          <p:cNvSpPr/>
          <p:nvPr/>
        </p:nvSpPr>
        <p:spPr>
          <a:xfrm>
            <a:off x="642960" y="387360"/>
            <a:ext cx="7688160" cy="8604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strutura lógica de um projecto (I)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287280" y="2502000"/>
            <a:ext cx="3591000" cy="4284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Objectivo ge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Black"/>
              </a:rPr>
              <a:t>(de desenvolvimento ou global)</a:t>
            </a:r>
            <a:r>
              <a:rPr b="0" lang="ar-SA" sz="1200" spc="-1" strike="noStrike">
                <a:solidFill>
                  <a:srgbClr val="000000"/>
                </a:solidFill>
                <a:latin typeface="Arial Black"/>
                <a:ea typeface="Arial"/>
              </a:rPr>
              <a:t>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4859280" y="2502000"/>
            <a:ext cx="3591000" cy="4284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Black"/>
              </a:rPr>
              <a:t>Objectivo(s) específico(s)</a:t>
            </a:r>
            <a:r>
              <a:rPr b="0" lang="ar-SA" sz="1400" spc="-1" strike="noStrike">
                <a:solidFill>
                  <a:srgbClr val="000000"/>
                </a:solidFill>
                <a:latin typeface="Arial Black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Black"/>
              </a:rPr>
              <a:t>ou imediato(s)</a:t>
            </a:r>
            <a:r>
              <a:rPr b="0" lang="ar-SA" sz="1400" spc="-1" strike="noStrike">
                <a:solidFill>
                  <a:srgbClr val="000000"/>
                </a:solidFill>
                <a:latin typeface="Arial Black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77920" y="3719520"/>
            <a:ext cx="3506760" cy="13161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Objectivo geral do projec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 longo praz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Black"/>
              </a:rPr>
              <a:t>O projecto contribuirá para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876920" y="3719520"/>
            <a:ext cx="3759120" cy="13161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 Black"/>
              </a:rPr>
              <a:t>Reflecte a(s) mudança(s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 Black"/>
              </a:rPr>
              <a:t>que o projecto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 Black"/>
              </a:rPr>
              <a:t>espera alcança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Black"/>
              </a:rPr>
              <a:t>O projecto conseguirá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6400800" y="2954160"/>
            <a:ext cx="1440" cy="73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 flipH="1">
            <a:off x="3787560" y="4430880"/>
            <a:ext cx="10602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930320" y="2954160"/>
            <a:ext cx="1800" cy="73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1"/>
          <p:cNvSpPr/>
          <p:nvPr/>
        </p:nvSpPr>
        <p:spPr>
          <a:xfrm>
            <a:off x="3962520" y="4430880"/>
            <a:ext cx="1440" cy="42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603360" y="2290680"/>
            <a:ext cx="2044440" cy="4287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Result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144360" y="3762360"/>
            <a:ext cx="2452680" cy="2251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Produ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gerados pel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ctiv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do projec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Black"/>
              </a:rPr>
              <a:t>Produzi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4"/>
          <p:cNvSpPr/>
          <p:nvPr/>
        </p:nvSpPr>
        <p:spPr>
          <a:xfrm>
            <a:off x="1523880" y="2743200"/>
            <a:ext cx="1800" cy="1001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3649680" y="2290680"/>
            <a:ext cx="2046240" cy="4287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ctiv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6599160" y="2290680"/>
            <a:ext cx="2044800" cy="4287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Recur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352680" y="3798720"/>
            <a:ext cx="2452680" cy="21974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cções a ser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realizadas p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lcançar 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result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Black"/>
              </a:rPr>
              <a:t>Faz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6502320" y="3798720"/>
            <a:ext cx="2451240" cy="2229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Recursos humano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técnicos e materia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necessár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 suficien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para execut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s activ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Black"/>
              </a:rPr>
              <a:t>Disponibiliz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>
            <a:off x="2617920" y="4273560"/>
            <a:ext cx="650880" cy="1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10"/>
          <p:cNvSpPr/>
          <p:nvPr/>
        </p:nvSpPr>
        <p:spPr>
          <a:xfrm>
            <a:off x="5872320" y="4273560"/>
            <a:ext cx="649080" cy="1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4673520" y="2795760"/>
            <a:ext cx="1800" cy="1002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12"/>
          <p:cNvSpPr/>
          <p:nvPr/>
        </p:nvSpPr>
        <p:spPr>
          <a:xfrm>
            <a:off x="7518240" y="2795760"/>
            <a:ext cx="1800" cy="1002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13"/>
          <p:cNvSpPr/>
          <p:nvPr/>
        </p:nvSpPr>
        <p:spPr>
          <a:xfrm>
            <a:off x="642960" y="387360"/>
            <a:ext cx="7688160" cy="8604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strutura lógica de um projecto (II)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Marcador de Posição da Data 1"/>
          <p:cNvSpPr/>
          <p:nvPr/>
        </p:nvSpPr>
        <p:spPr>
          <a:xfrm>
            <a:off x="609480" y="6245280"/>
            <a:ext cx="2462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daptado de Schiefer 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1"/>
          <p:cNvSpPr/>
          <p:nvPr/>
        </p:nvSpPr>
        <p:spPr>
          <a:xfrm>
            <a:off x="947880" y="228600"/>
            <a:ext cx="7146720" cy="11253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atriz do quadro lógico o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riz de planeamento de projec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2"/>
          <p:cNvSpPr/>
          <p:nvPr/>
        </p:nvSpPr>
        <p:spPr>
          <a:xfrm>
            <a:off x="723960" y="1981080"/>
            <a:ext cx="76658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723960" y="1981080"/>
            <a:ext cx="7665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723960" y="1981080"/>
            <a:ext cx="1440" cy="3657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723960" y="1981080"/>
            <a:ext cx="126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6319800" y="2008080"/>
            <a:ext cx="85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póte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804960" y="2230560"/>
            <a:ext cx="8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scriçã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6319800" y="2230560"/>
            <a:ext cx="58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is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12"/>
          <p:cNvSpPr/>
          <p:nvPr/>
        </p:nvSpPr>
        <p:spPr>
          <a:xfrm>
            <a:off x="765360" y="2470320"/>
            <a:ext cx="124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ivo ger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792360" y="2690640"/>
            <a:ext cx="169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desenvolvimento ou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14"/>
          <p:cNvSpPr/>
          <p:nvPr/>
        </p:nvSpPr>
        <p:spPr>
          <a:xfrm>
            <a:off x="806040" y="2911320"/>
            <a:ext cx="53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lobal)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766800" y="3371760"/>
            <a:ext cx="100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ivo(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6"/>
          <p:cNvSpPr/>
          <p:nvPr/>
        </p:nvSpPr>
        <p:spPr>
          <a:xfrm>
            <a:off x="799920" y="3594240"/>
            <a:ext cx="10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pecífico(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17"/>
          <p:cNvSpPr/>
          <p:nvPr/>
        </p:nvSpPr>
        <p:spPr>
          <a:xfrm>
            <a:off x="801720" y="381492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imediatos)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8"/>
          <p:cNvSpPr/>
          <p:nvPr/>
        </p:nvSpPr>
        <p:spPr>
          <a:xfrm>
            <a:off x="801720" y="42750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19"/>
          <p:cNvSpPr/>
          <p:nvPr/>
        </p:nvSpPr>
        <p:spPr>
          <a:xfrm>
            <a:off x="768960" y="4735440"/>
            <a:ext cx="91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20"/>
          <p:cNvSpPr/>
          <p:nvPr/>
        </p:nvSpPr>
        <p:spPr>
          <a:xfrm>
            <a:off x="804960" y="519588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21"/>
          <p:cNvSpPr/>
          <p:nvPr/>
        </p:nvSpPr>
        <p:spPr>
          <a:xfrm flipV="1">
            <a:off x="31050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22"/>
          <p:cNvSpPr/>
          <p:nvPr/>
        </p:nvSpPr>
        <p:spPr>
          <a:xfrm>
            <a:off x="3105000" y="1971720"/>
            <a:ext cx="12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23"/>
          <p:cNvSpPr/>
          <p:nvPr/>
        </p:nvSpPr>
        <p:spPr>
          <a:xfrm>
            <a:off x="723960" y="1981080"/>
            <a:ext cx="23702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24"/>
          <p:cNvSpPr/>
          <p:nvPr/>
        </p:nvSpPr>
        <p:spPr>
          <a:xfrm>
            <a:off x="723960" y="1981080"/>
            <a:ext cx="23702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25"/>
          <p:cNvSpPr/>
          <p:nvPr/>
        </p:nvSpPr>
        <p:spPr>
          <a:xfrm>
            <a:off x="3094200" y="1971720"/>
            <a:ext cx="36360" cy="2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26"/>
          <p:cNvSpPr/>
          <p:nvPr/>
        </p:nvSpPr>
        <p:spPr>
          <a:xfrm>
            <a:off x="723960" y="2211480"/>
            <a:ext cx="23702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27"/>
          <p:cNvSpPr/>
          <p:nvPr/>
        </p:nvSpPr>
        <p:spPr>
          <a:xfrm>
            <a:off x="723960" y="2211480"/>
            <a:ext cx="23702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28"/>
          <p:cNvSpPr/>
          <p:nvPr/>
        </p:nvSpPr>
        <p:spPr>
          <a:xfrm flipV="1">
            <a:off x="464184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29"/>
          <p:cNvSpPr/>
          <p:nvPr/>
        </p:nvSpPr>
        <p:spPr>
          <a:xfrm>
            <a:off x="4641840" y="197172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31"/>
          <p:cNvSpPr/>
          <p:nvPr/>
        </p:nvSpPr>
        <p:spPr>
          <a:xfrm>
            <a:off x="3130560" y="221148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32"/>
          <p:cNvSpPr/>
          <p:nvPr/>
        </p:nvSpPr>
        <p:spPr>
          <a:xfrm>
            <a:off x="3130560" y="221148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33"/>
          <p:cNvSpPr/>
          <p:nvPr/>
        </p:nvSpPr>
        <p:spPr>
          <a:xfrm flipV="1">
            <a:off x="623736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623736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35"/>
          <p:cNvSpPr/>
          <p:nvPr/>
        </p:nvSpPr>
        <p:spPr>
          <a:xfrm>
            <a:off x="6226200" y="2000160"/>
            <a:ext cx="349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36"/>
          <p:cNvSpPr/>
          <p:nvPr/>
        </p:nvSpPr>
        <p:spPr>
          <a:xfrm>
            <a:off x="4665600" y="221148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665600" y="221148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38"/>
          <p:cNvSpPr/>
          <p:nvPr/>
        </p:nvSpPr>
        <p:spPr>
          <a:xfrm flipV="1">
            <a:off x="83772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39"/>
          <p:cNvSpPr/>
          <p:nvPr/>
        </p:nvSpPr>
        <p:spPr>
          <a:xfrm>
            <a:off x="837720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40"/>
          <p:cNvSpPr/>
          <p:nvPr/>
        </p:nvSpPr>
        <p:spPr>
          <a:xfrm>
            <a:off x="8366040" y="2000160"/>
            <a:ext cx="367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41"/>
          <p:cNvSpPr/>
          <p:nvPr/>
        </p:nvSpPr>
        <p:spPr>
          <a:xfrm>
            <a:off x="711360" y="2432160"/>
            <a:ext cx="23828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723960" y="1981080"/>
            <a:ext cx="1440" cy="451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43"/>
          <p:cNvSpPr/>
          <p:nvPr/>
        </p:nvSpPr>
        <p:spPr>
          <a:xfrm>
            <a:off x="723960" y="1981080"/>
            <a:ext cx="12600" cy="45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44"/>
          <p:cNvSpPr/>
          <p:nvPr/>
        </p:nvSpPr>
        <p:spPr>
          <a:xfrm>
            <a:off x="747720" y="311472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5"/>
          <p:cNvSpPr/>
          <p:nvPr/>
        </p:nvSpPr>
        <p:spPr>
          <a:xfrm>
            <a:off x="747720" y="311472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46"/>
          <p:cNvSpPr/>
          <p:nvPr/>
        </p:nvSpPr>
        <p:spPr>
          <a:xfrm>
            <a:off x="3130560" y="311472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47"/>
          <p:cNvSpPr/>
          <p:nvPr/>
        </p:nvSpPr>
        <p:spPr>
          <a:xfrm>
            <a:off x="3130560" y="311472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48"/>
          <p:cNvSpPr/>
          <p:nvPr/>
        </p:nvSpPr>
        <p:spPr>
          <a:xfrm>
            <a:off x="4665600" y="311472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49"/>
          <p:cNvSpPr/>
          <p:nvPr/>
        </p:nvSpPr>
        <p:spPr>
          <a:xfrm>
            <a:off x="4665600" y="311472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50"/>
          <p:cNvSpPr/>
          <p:nvPr/>
        </p:nvSpPr>
        <p:spPr>
          <a:xfrm>
            <a:off x="747720" y="401796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51"/>
          <p:cNvSpPr/>
          <p:nvPr/>
        </p:nvSpPr>
        <p:spPr>
          <a:xfrm>
            <a:off x="747720" y="4017960"/>
            <a:ext cx="23464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52"/>
          <p:cNvSpPr/>
          <p:nvPr/>
        </p:nvSpPr>
        <p:spPr>
          <a:xfrm>
            <a:off x="3130560" y="401796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53"/>
          <p:cNvSpPr/>
          <p:nvPr/>
        </p:nvSpPr>
        <p:spPr>
          <a:xfrm>
            <a:off x="3130560" y="4017960"/>
            <a:ext cx="14986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54"/>
          <p:cNvSpPr/>
          <p:nvPr/>
        </p:nvSpPr>
        <p:spPr>
          <a:xfrm>
            <a:off x="4665600" y="401796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55"/>
          <p:cNvSpPr/>
          <p:nvPr/>
        </p:nvSpPr>
        <p:spPr>
          <a:xfrm>
            <a:off x="4665600" y="4017960"/>
            <a:ext cx="156060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56"/>
          <p:cNvSpPr/>
          <p:nvPr/>
        </p:nvSpPr>
        <p:spPr>
          <a:xfrm>
            <a:off x="747720" y="447840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57"/>
          <p:cNvSpPr/>
          <p:nvPr/>
        </p:nvSpPr>
        <p:spPr>
          <a:xfrm>
            <a:off x="747720" y="447840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58"/>
          <p:cNvSpPr/>
          <p:nvPr/>
        </p:nvSpPr>
        <p:spPr>
          <a:xfrm>
            <a:off x="3130560" y="447840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59"/>
          <p:cNvSpPr/>
          <p:nvPr/>
        </p:nvSpPr>
        <p:spPr>
          <a:xfrm>
            <a:off x="3130560" y="447840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60"/>
          <p:cNvSpPr/>
          <p:nvPr/>
        </p:nvSpPr>
        <p:spPr>
          <a:xfrm>
            <a:off x="4665600" y="447840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61"/>
          <p:cNvSpPr/>
          <p:nvPr/>
        </p:nvSpPr>
        <p:spPr>
          <a:xfrm>
            <a:off x="4665600" y="447840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62"/>
          <p:cNvSpPr/>
          <p:nvPr/>
        </p:nvSpPr>
        <p:spPr>
          <a:xfrm>
            <a:off x="747720" y="493884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63"/>
          <p:cNvSpPr/>
          <p:nvPr/>
        </p:nvSpPr>
        <p:spPr>
          <a:xfrm>
            <a:off x="747720" y="493884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64"/>
          <p:cNvSpPr/>
          <p:nvPr/>
        </p:nvSpPr>
        <p:spPr>
          <a:xfrm>
            <a:off x="3130560" y="493884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66"/>
          <p:cNvSpPr/>
          <p:nvPr/>
        </p:nvSpPr>
        <p:spPr>
          <a:xfrm>
            <a:off x="4665600" y="493884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67"/>
          <p:cNvSpPr/>
          <p:nvPr/>
        </p:nvSpPr>
        <p:spPr>
          <a:xfrm>
            <a:off x="4665600" y="493884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68"/>
          <p:cNvSpPr/>
          <p:nvPr/>
        </p:nvSpPr>
        <p:spPr>
          <a:xfrm>
            <a:off x="747720" y="5398920"/>
            <a:ext cx="23464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69"/>
          <p:cNvSpPr/>
          <p:nvPr/>
        </p:nvSpPr>
        <p:spPr>
          <a:xfrm>
            <a:off x="747720" y="5398920"/>
            <a:ext cx="2346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70"/>
          <p:cNvSpPr/>
          <p:nvPr/>
        </p:nvSpPr>
        <p:spPr>
          <a:xfrm>
            <a:off x="3130560" y="5398920"/>
            <a:ext cx="14986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71"/>
          <p:cNvSpPr/>
          <p:nvPr/>
        </p:nvSpPr>
        <p:spPr>
          <a:xfrm>
            <a:off x="3130560" y="5398920"/>
            <a:ext cx="14986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72"/>
          <p:cNvSpPr/>
          <p:nvPr/>
        </p:nvSpPr>
        <p:spPr>
          <a:xfrm>
            <a:off x="4665600" y="5398920"/>
            <a:ext cx="1560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73"/>
          <p:cNvSpPr/>
          <p:nvPr/>
        </p:nvSpPr>
        <p:spPr>
          <a:xfrm>
            <a:off x="4665600" y="5398920"/>
            <a:ext cx="15606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74"/>
          <p:cNvSpPr/>
          <p:nvPr/>
        </p:nvSpPr>
        <p:spPr>
          <a:xfrm>
            <a:off x="711360" y="2460600"/>
            <a:ext cx="36360" cy="318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75"/>
          <p:cNvSpPr/>
          <p:nvPr/>
        </p:nvSpPr>
        <p:spPr>
          <a:xfrm>
            <a:off x="3094200" y="2211480"/>
            <a:ext cx="3636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77"/>
          <p:cNvSpPr/>
          <p:nvPr/>
        </p:nvSpPr>
        <p:spPr>
          <a:xfrm>
            <a:off x="6226200" y="2211480"/>
            <a:ext cx="349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78"/>
          <p:cNvSpPr/>
          <p:nvPr/>
        </p:nvSpPr>
        <p:spPr>
          <a:xfrm>
            <a:off x="8366040" y="2211480"/>
            <a:ext cx="367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79"/>
          <p:cNvSpPr/>
          <p:nvPr/>
        </p:nvSpPr>
        <p:spPr>
          <a:xfrm>
            <a:off x="3130560" y="197172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80"/>
          <p:cNvSpPr/>
          <p:nvPr/>
        </p:nvSpPr>
        <p:spPr>
          <a:xfrm>
            <a:off x="6261120" y="221148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81"/>
          <p:cNvSpPr/>
          <p:nvPr/>
        </p:nvSpPr>
        <p:spPr>
          <a:xfrm>
            <a:off x="6261120" y="221148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82"/>
          <p:cNvSpPr/>
          <p:nvPr/>
        </p:nvSpPr>
        <p:spPr>
          <a:xfrm>
            <a:off x="3130560" y="243216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83"/>
          <p:cNvSpPr/>
          <p:nvPr/>
        </p:nvSpPr>
        <p:spPr>
          <a:xfrm>
            <a:off x="6261120" y="311472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84"/>
          <p:cNvSpPr/>
          <p:nvPr/>
        </p:nvSpPr>
        <p:spPr>
          <a:xfrm>
            <a:off x="6261120" y="311472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85"/>
          <p:cNvSpPr/>
          <p:nvPr/>
        </p:nvSpPr>
        <p:spPr>
          <a:xfrm>
            <a:off x="747720" y="333540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86"/>
          <p:cNvSpPr/>
          <p:nvPr/>
        </p:nvSpPr>
        <p:spPr>
          <a:xfrm>
            <a:off x="6261120" y="401796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87"/>
          <p:cNvSpPr/>
          <p:nvPr/>
        </p:nvSpPr>
        <p:spPr>
          <a:xfrm>
            <a:off x="6261120" y="4017960"/>
            <a:ext cx="21049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88"/>
          <p:cNvSpPr/>
          <p:nvPr/>
        </p:nvSpPr>
        <p:spPr>
          <a:xfrm>
            <a:off x="747720" y="423864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89"/>
          <p:cNvSpPr/>
          <p:nvPr/>
        </p:nvSpPr>
        <p:spPr>
          <a:xfrm>
            <a:off x="6261120" y="447840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90"/>
          <p:cNvSpPr/>
          <p:nvPr/>
        </p:nvSpPr>
        <p:spPr>
          <a:xfrm>
            <a:off x="6261120" y="447840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91"/>
          <p:cNvSpPr/>
          <p:nvPr/>
        </p:nvSpPr>
        <p:spPr>
          <a:xfrm>
            <a:off x="747720" y="469908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92"/>
          <p:cNvSpPr/>
          <p:nvPr/>
        </p:nvSpPr>
        <p:spPr>
          <a:xfrm>
            <a:off x="6261120" y="493884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93"/>
          <p:cNvSpPr/>
          <p:nvPr/>
        </p:nvSpPr>
        <p:spPr>
          <a:xfrm>
            <a:off x="6261120" y="493884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94"/>
          <p:cNvSpPr/>
          <p:nvPr/>
        </p:nvSpPr>
        <p:spPr>
          <a:xfrm>
            <a:off x="747720" y="515952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95"/>
          <p:cNvSpPr/>
          <p:nvPr/>
        </p:nvSpPr>
        <p:spPr>
          <a:xfrm>
            <a:off x="6261120" y="5398920"/>
            <a:ext cx="210492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96"/>
          <p:cNvSpPr/>
          <p:nvPr/>
        </p:nvSpPr>
        <p:spPr>
          <a:xfrm>
            <a:off x="6261120" y="5398920"/>
            <a:ext cx="2104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97"/>
          <p:cNvSpPr/>
          <p:nvPr/>
        </p:nvSpPr>
        <p:spPr>
          <a:xfrm>
            <a:off x="747720" y="5619600"/>
            <a:ext cx="765504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6286680" y="4714920"/>
            <a:ext cx="20714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supostos para a concretização dos resultados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0" name="Conexão recta unidireccional 101"/>
          <p:cNvCxnSpPr/>
          <p:nvPr/>
        </p:nvCxnSpPr>
        <p:spPr>
          <a:xfrm>
            <a:off x="3429000" y="4928760"/>
            <a:ext cx="2572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1" name="Conexão recta unidireccional 102"/>
          <p:cNvCxnSpPr/>
          <p:nvPr/>
        </p:nvCxnSpPr>
        <p:spPr>
          <a:xfrm>
            <a:off x="3429000" y="4500720"/>
            <a:ext cx="2572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Conexão recta unidireccional 103"/>
          <p:cNvCxnSpPr/>
          <p:nvPr/>
        </p:nvCxnSpPr>
        <p:spPr>
          <a:xfrm>
            <a:off x="3429000" y="3785760"/>
            <a:ext cx="2572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3" name="Rectangle 13"/>
          <p:cNvSpPr/>
          <p:nvPr/>
        </p:nvSpPr>
        <p:spPr>
          <a:xfrm>
            <a:off x="6286680" y="4286160"/>
            <a:ext cx="20714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supostos para a concretização dos objectivos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13"/>
          <p:cNvSpPr/>
          <p:nvPr/>
        </p:nvSpPr>
        <p:spPr>
          <a:xfrm>
            <a:off x="6286680" y="3571920"/>
            <a:ext cx="207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supostos para a concretização do objectivo geral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5" name="Conexão recta unidireccional 107"/>
          <p:cNvCxnSpPr/>
          <p:nvPr/>
        </p:nvCxnSpPr>
        <p:spPr>
          <a:xfrm flipH="1" flipV="1">
            <a:off x="3357000" y="4571640"/>
            <a:ext cx="257220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6" name="Conexão recta unidireccional 108"/>
          <p:cNvCxnSpPr/>
          <p:nvPr/>
        </p:nvCxnSpPr>
        <p:spPr>
          <a:xfrm flipH="1" flipV="1">
            <a:off x="3357360" y="3857040"/>
            <a:ext cx="2643840" cy="572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7" name="Conexão recta unidireccional 111"/>
          <p:cNvCxnSpPr/>
          <p:nvPr/>
        </p:nvCxnSpPr>
        <p:spPr>
          <a:xfrm flipH="1" flipV="1">
            <a:off x="3285360" y="2856960"/>
            <a:ext cx="2715480" cy="857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Relação entre pressupostos, objectivos, resultados e actividad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As actividades apenas irão conduzir aos resultados pretendidos se o permitirem os pressupostos; as actividades somadas aos pressupostos dos resultados satisfeitos (de nível superior) conduzem aos resultado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Os resultados somados aos pressupostos satisfeitos conduzem à concretização dos objectivos específico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O objectivo específico do projecto somado aos pressupostos satisfeitos contribui para o objectivo geral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jectiv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Correspondem aos resultados visados em termos de estado que se pretende atingir pela implementação do project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strutura de um Objectivo (Cristovão e Silva, 2003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ertinente, adequando-se às situações que suscitaram a intervenç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eciso, contendo em si a exactidão do percurso a efectuar e definindo o novo estado pretendid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Realizável, não sendo um objectivo demasiadamente ambicioso, sem hipóteses de ser alcançado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Mensurável, fornecendo a possibilidade de uma correcta avaliação posterior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jectiv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strutura de um Objectivo (Cristovão e Silva, 2003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 natureza da situação desejada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critérios de sucesso ou de fracass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 população alvo do projec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 zona de aplicação do projec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 tempo em que deverá ser atingid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Exemplo: Reduzir a taxa de mortalidade específica por acidentes por veículos a motor (elemento 1) para 15 por 10000 (elemento 2), no grupo etário dos 0 a 25 anos (elemento 3), no Distrito de Beja (elemento 4), até ao ano 2010 (elemento 5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jectiv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Os objectivos devem ser interdependentes e sequenciais (hierarquizados). Uma boa hierarquização dos objectivos integra a formulação de objectivos gerais e de objectivos específicos (Cristovão e Silva, 2003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xemplo de Objectivo Geral (Cristovão e Silva, 2003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Reduzir em 50% a taxa de mortalidade específica por acidentes por veículos a motor, na população com menos de 25 anos, no Distrito de Beja, até 2010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jectiv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xemplo de Objectivos Específicos associad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1.- Até 2010, 100% dos automobilistas do Distrito de Beja com menos de 25 anos, deverão ter sido submetidos a uma acção de formação sobre a prevenção rodoviária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2.- Até 2007, 100% dos pontos negros das estradas do Distrito de Beja deverão estar providos de sinalização adequada, referenciando a existência de perig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3.- Até 2005, 50% dos pais dos jovens com menos de 18 anos, deverão ter sido submetidos a acções de educação sobre a necessidade de instruírem os filhos sobre normas de segurança rodoviária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bjectivos e Indicado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Natureza dos objectivos e indicador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i="1" lang="pt-PT" sz="1300" spc="-1" strike="noStrike">
                <a:solidFill>
                  <a:srgbClr val="000000"/>
                </a:solidFill>
                <a:latin typeface="Verdana"/>
              </a:rPr>
              <a:t>Input</a:t>
            </a: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: tudo o que se refere a recurso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i="1" lang="pt-PT" sz="1300" spc="-1" strike="noStrike">
                <a:solidFill>
                  <a:srgbClr val="000000"/>
                </a:solidFill>
                <a:latin typeface="Verdana"/>
              </a:rPr>
              <a:t>Output</a:t>
            </a: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: tudo o que se refere a produtos e serviço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Impacte: tudo o que identifica impactes (influência sustentável sobre o ambiente) da intervençã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Deve procurar-se sempre definir objectivos de impacte; se tal não for possível deve-se então definir objectivos de </a:t>
            </a:r>
            <a:r>
              <a:rPr b="0" i="1" lang="pt-PT" sz="1300" spc="-1" strike="noStrike">
                <a:solidFill>
                  <a:srgbClr val="000000"/>
                </a:solidFill>
                <a:latin typeface="Verdana"/>
              </a:rPr>
              <a:t>output</a:t>
            </a: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; se tal também for impossível os objectivos a definir serão de </a:t>
            </a:r>
            <a:r>
              <a:rPr b="0" i="1" lang="pt-PT" sz="1300" spc="-1" strike="noStrike">
                <a:solidFill>
                  <a:srgbClr val="000000"/>
                </a:solidFill>
                <a:latin typeface="Verdana"/>
              </a:rPr>
              <a:t>input</a:t>
            </a: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Estabelecimento de prioridad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Modelo Eisenhower (Schiefer </a:t>
            </a:r>
            <a:r>
              <a:rPr b="0" i="1" lang="pt-PT" sz="16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Técnica de hierarquização das prioridades de intervenção; é um método de grande simplicidade e utilidade em termos de visualização, fundamentando-se em dois critérios de qualificação e priorização de problemas ou necessidade de intervenção: importância e urgência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É uma forma possível de dar um passo intermédio na transformação de problemas em objectivo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Os problemas que necessitam de atenção imediata (os que são importantes e urgentes) são colocados no quadrante superior direito (prioridade I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nteúdos, orientação e objectivos do projec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rientação e âmbito conceptual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Referentes teóricos relacionados com o conteúdo do projecto; investigações e estudos de referência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rientação e critérios pedagógicos, sociais, culturais, psicológicos, etc.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cidência de âmbito conceptual em aspectos metodológicos e organizativ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Grau de inovação ou carácter experimental do project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Estabelecimento de prioridad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Modelo Eisenhower (Schiefer </a:t>
            </a:r>
            <a:r>
              <a:rPr b="0" i="1" lang="pt-PT" sz="16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Os problemas que são importantes mas não urgentes são colocados no quadrante superior esquerdo (prioridade II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Nos quadrantes inferiores colocam-se os problemas menos importantes e que não afectam nem põem em causa o projecto; estes problemas podem ser deixados de lado na formulação de objectivos gerais e específicos.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66280" y="164304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Estabelecimento de prioridades (outros métodos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19232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odelo Eisenhower 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(Schiefer </a:t>
            </a:r>
            <a:r>
              <a:rPr b="0" i="1" lang="pt-PT" sz="16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Rectângulo 3"/>
          <p:cNvSpPr/>
          <p:nvPr/>
        </p:nvSpPr>
        <p:spPr>
          <a:xfrm>
            <a:off x="714240" y="2714760"/>
            <a:ext cx="7715520" cy="32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ângulo 4"/>
          <p:cNvSpPr/>
          <p:nvPr/>
        </p:nvSpPr>
        <p:spPr>
          <a:xfrm>
            <a:off x="1785960" y="292896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Priorida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ângulo 7"/>
          <p:cNvSpPr/>
          <p:nvPr/>
        </p:nvSpPr>
        <p:spPr>
          <a:xfrm>
            <a:off x="4857840" y="292896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Priorida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ângulo 8"/>
          <p:cNvSpPr/>
          <p:nvPr/>
        </p:nvSpPr>
        <p:spPr>
          <a:xfrm>
            <a:off x="785880" y="2786040"/>
            <a:ext cx="8571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Elev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ângulo 10"/>
          <p:cNvSpPr/>
          <p:nvPr/>
        </p:nvSpPr>
        <p:spPr>
          <a:xfrm>
            <a:off x="1785960" y="421488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A negligenci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ângulo 11"/>
          <p:cNvSpPr/>
          <p:nvPr/>
        </p:nvSpPr>
        <p:spPr>
          <a:xfrm>
            <a:off x="4857840" y="421488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Priorida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I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ângulo 12"/>
          <p:cNvSpPr/>
          <p:nvPr/>
        </p:nvSpPr>
        <p:spPr>
          <a:xfrm rot="16200000">
            <a:off x="500040" y="4071960"/>
            <a:ext cx="15004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Importâ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ângulo 14"/>
          <p:cNvSpPr/>
          <p:nvPr/>
        </p:nvSpPr>
        <p:spPr>
          <a:xfrm>
            <a:off x="857160" y="5500800"/>
            <a:ext cx="92880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Reduzi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4" name="Conexão recta unidireccional 16"/>
          <p:cNvCxnSpPr/>
          <p:nvPr/>
        </p:nvCxnSpPr>
        <p:spPr>
          <a:xfrm flipV="1">
            <a:off x="1498680" y="2928240"/>
            <a:ext cx="2160" cy="243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5" name="Conexão recta unidireccional 18"/>
          <p:cNvCxnSpPr/>
          <p:nvPr/>
        </p:nvCxnSpPr>
        <p:spPr>
          <a:xfrm>
            <a:off x="1857240" y="5500800"/>
            <a:ext cx="5787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6" name="Rectângulo 21"/>
          <p:cNvSpPr/>
          <p:nvPr/>
        </p:nvSpPr>
        <p:spPr>
          <a:xfrm>
            <a:off x="7572240" y="5572080"/>
            <a:ext cx="7858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Elev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ângulo 22"/>
          <p:cNvSpPr/>
          <p:nvPr/>
        </p:nvSpPr>
        <p:spPr>
          <a:xfrm>
            <a:off x="4214880" y="5572080"/>
            <a:ext cx="11430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Urgê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Estabelecimento de prioridad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Grelha de priorização (Schiefer </a:t>
            </a:r>
            <a:r>
              <a:rPr b="0" i="1" lang="pt-PT" sz="16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Tabela de dupla entrada onde os problemas são hierarquizados de acordo com alguns critérios seleccionado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sses critérios incluem a importância e a urgência e outros como os recursos disponíveis, a sensibilidade dos técnicos e dirigentes à sua erradicação ou a importância que eles têm para o grupo alv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Começa-se por seleccionar os critérios de priorização e estabelecer a relevância de cada um deles (factor de ponderação); em seguida, cada um dos problemas identificados é classificado numa escala de 1 a 5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Os problemas mais pontuados são aqueles que são prioritários para o projecto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Grelha de priorização (Schiefer </a:t>
            </a:r>
            <a:r>
              <a:rPr b="0" i="1" lang="en-GB" sz="1800" spc="-1" strike="noStrike">
                <a:solidFill>
                  <a:srgbClr val="006600"/>
                </a:solidFill>
                <a:latin typeface="Verdana"/>
              </a:rPr>
              <a:t>et al</a:t>
            </a: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71680" y="2571840"/>
          <a:ext cx="8001000" cy="3062160"/>
        </p:xfrm>
        <a:graphic>
          <a:graphicData uri="http://schemas.openxmlformats.org/drawingml/2006/table">
            <a:tbl>
              <a:tblPr/>
              <a:tblGrid>
                <a:gridCol w="1143000"/>
                <a:gridCol w="1428480"/>
                <a:gridCol w="428760"/>
                <a:gridCol w="1571760"/>
                <a:gridCol w="428400"/>
                <a:gridCol w="1571760"/>
                <a:gridCol w="428400"/>
                <a:gridCol w="1000440"/>
              </a:tblGrid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blem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itérios de prioriz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portância (40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rgência (40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ursos existentes (20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édia ponderad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 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 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 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 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nteúdos, orientação e objectivos do projec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bjectivos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escrição dos objectivos gerais e específic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Resultados e mudanças pretendidas por estes objectiv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nálise do conteúdo dos objectivos a um princípio de realidade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Grau de adaptação em função das variáveis de gestã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nteúdos, orientação e objectivos do projec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revisão da avaliação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bjectivos da avaliaç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evisão de métodos de avaliaç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Tipos de avaliação e agentes avaliadore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dicadores de avaliação do processo e do impacto dos resultado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Planeamento de projectos orientado para objectivos (P.P.O.O.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Grupos envolvido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nálise 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blema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bjectivo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lternativa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bjectivos/actividad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nstrução 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dicador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a matriz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Meios de verificação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(MEL ou MQL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essuposto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u MPP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1" name="Conexão recta unidireccional 6"/>
          <p:cNvCxnSpPr/>
          <p:nvPr/>
        </p:nvCxnSpPr>
        <p:spPr>
          <a:xfrm flipV="1">
            <a:off x="3214800" y="3142800"/>
            <a:ext cx="71496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Conexão recta unidireccional 8"/>
          <p:cNvCxnSpPr/>
          <p:nvPr/>
        </p:nvCxnSpPr>
        <p:spPr>
          <a:xfrm>
            <a:off x="3214440" y="342900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Conexão recta unidireccional 11"/>
          <p:cNvCxnSpPr/>
          <p:nvPr/>
        </p:nvCxnSpPr>
        <p:spPr>
          <a:xfrm>
            <a:off x="3214440" y="3499920"/>
            <a:ext cx="78660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Conexão recta unidireccional 13"/>
          <p:cNvCxnSpPr/>
          <p:nvPr/>
        </p:nvCxnSpPr>
        <p:spPr>
          <a:xfrm>
            <a:off x="3214440" y="3571920"/>
            <a:ext cx="78660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Conexão recta unidireccional 17"/>
          <p:cNvCxnSpPr/>
          <p:nvPr/>
        </p:nvCxnSpPr>
        <p:spPr>
          <a:xfrm flipV="1">
            <a:off x="3500280" y="4714200"/>
            <a:ext cx="5011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Conexão recta unidireccional 20"/>
          <p:cNvCxnSpPr/>
          <p:nvPr/>
        </p:nvCxnSpPr>
        <p:spPr>
          <a:xfrm>
            <a:off x="3571560" y="4928760"/>
            <a:ext cx="429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Conexão recta unidireccional 22"/>
          <p:cNvCxnSpPr/>
          <p:nvPr/>
        </p:nvCxnSpPr>
        <p:spPr>
          <a:xfrm>
            <a:off x="3500280" y="5071680"/>
            <a:ext cx="5011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Conexão recta unidireccional 24"/>
          <p:cNvCxnSpPr/>
          <p:nvPr/>
        </p:nvCxnSpPr>
        <p:spPr>
          <a:xfrm>
            <a:off x="3429000" y="5214600"/>
            <a:ext cx="5724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Planeamento de projectos orientado para objectivos (P.P.O.O.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(etapa de identificaçã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Usar, por exemplo, as árvores de problemas e de objectiv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 árvore de objectivos é uma árvore sombra (simétrica) da árvore de problemas; nela estão representadas as situações desejadas (objectivos) relativas a cada uma das situações problemáticas indicadas na árvore de problema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Tem também um objectivo central, objectivos terminais e níveis de objectiv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2560" y="1642680"/>
            <a:ext cx="87152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Árvore de obje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ângulo 4"/>
          <p:cNvSpPr/>
          <p:nvPr/>
        </p:nvSpPr>
        <p:spPr>
          <a:xfrm>
            <a:off x="1285920" y="3286080"/>
            <a:ext cx="1428840" cy="571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Melhorar a rentabilização do serviço prest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14"/>
          <p:cNvSpPr/>
          <p:nvPr/>
        </p:nvSpPr>
        <p:spPr>
          <a:xfrm>
            <a:off x="4572000" y="1785960"/>
            <a:ext cx="2357280" cy="1143000"/>
          </a:xfrm>
          <a:prstGeom prst="ellips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Melhorar o serviço prest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ângulo 16"/>
          <p:cNvSpPr/>
          <p:nvPr/>
        </p:nvSpPr>
        <p:spPr>
          <a:xfrm>
            <a:off x="292896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umentar a produtivid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ângulo 18"/>
          <p:cNvSpPr/>
          <p:nvPr/>
        </p:nvSpPr>
        <p:spPr>
          <a:xfrm>
            <a:off x="592920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7" name="Conexão recta unidireccional 26"/>
          <p:cNvCxnSpPr/>
          <p:nvPr/>
        </p:nvCxnSpPr>
        <p:spPr>
          <a:xfrm flipV="1">
            <a:off x="2428920" y="2999880"/>
            <a:ext cx="35784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Conexão recta unidireccional 33"/>
          <p:cNvCxnSpPr/>
          <p:nvPr/>
        </p:nvCxnSpPr>
        <p:spPr>
          <a:xfrm flipV="1">
            <a:off x="6071040" y="292860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Rectângulo 34"/>
          <p:cNvSpPr/>
          <p:nvPr/>
        </p:nvSpPr>
        <p:spPr>
          <a:xfrm>
            <a:off x="1928880" y="4071960"/>
            <a:ext cx="1285920" cy="571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umentar a informação  de apoio à ven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ângulo 35"/>
          <p:cNvSpPr/>
          <p:nvPr/>
        </p:nvSpPr>
        <p:spPr>
          <a:xfrm>
            <a:off x="60721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ângulo 36"/>
          <p:cNvSpPr/>
          <p:nvPr/>
        </p:nvSpPr>
        <p:spPr>
          <a:xfrm>
            <a:off x="357120" y="5072040"/>
            <a:ext cx="1285920" cy="928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Reduzir as dificuldades  em implementar a disciplina no trabal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ângulo 37"/>
          <p:cNvSpPr/>
          <p:nvPr/>
        </p:nvSpPr>
        <p:spPr>
          <a:xfrm>
            <a:off x="1785960" y="5072040"/>
            <a:ext cx="1285920" cy="714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esenvolver o perfil da chef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" name="Conexão recta unidireccional 39"/>
          <p:cNvCxnSpPr/>
          <p:nvPr/>
        </p:nvCxnSpPr>
        <p:spPr>
          <a:xfrm flipV="1">
            <a:off x="4142880" y="2214000"/>
            <a:ext cx="3582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Rectângulo 42"/>
          <p:cNvSpPr/>
          <p:nvPr/>
        </p:nvSpPr>
        <p:spPr>
          <a:xfrm>
            <a:off x="7429680" y="485784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ângulo 43"/>
          <p:cNvSpPr/>
          <p:nvPr/>
        </p:nvSpPr>
        <p:spPr>
          <a:xfrm>
            <a:off x="47149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6" name="Conexão recta unidireccional 60"/>
          <p:cNvCxnSpPr/>
          <p:nvPr/>
        </p:nvCxnSpPr>
        <p:spPr>
          <a:xfrm flipH="1" flipV="1">
            <a:off x="73576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Conexão recta unidireccional 62"/>
          <p:cNvCxnSpPr/>
          <p:nvPr/>
        </p:nvCxnSpPr>
        <p:spPr>
          <a:xfrm flipH="1" flipV="1">
            <a:off x="1571040" y="4642560"/>
            <a:ext cx="5007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Conexão recta unidireccional 64"/>
          <p:cNvCxnSpPr/>
          <p:nvPr/>
        </p:nvCxnSpPr>
        <p:spPr>
          <a:xfrm flipV="1">
            <a:off x="2428920" y="3857040"/>
            <a:ext cx="21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Conexão recta unidireccional 66"/>
          <p:cNvCxnSpPr/>
          <p:nvPr/>
        </p:nvCxnSpPr>
        <p:spPr>
          <a:xfrm flipV="1">
            <a:off x="1284840" y="4642560"/>
            <a:ext cx="108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Rectângulo 44"/>
          <p:cNvSpPr/>
          <p:nvPr/>
        </p:nvSpPr>
        <p:spPr>
          <a:xfrm>
            <a:off x="3000240" y="3286080"/>
            <a:ext cx="1285920" cy="571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umentar a motivação para o trabal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1" name="Conexão recta unidireccional 64"/>
          <p:cNvCxnSpPr/>
          <p:nvPr/>
        </p:nvCxnSpPr>
        <p:spPr>
          <a:xfrm flipV="1">
            <a:off x="3642120" y="299988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Rectângulo 46"/>
          <p:cNvSpPr/>
          <p:nvPr/>
        </p:nvSpPr>
        <p:spPr>
          <a:xfrm>
            <a:off x="214200" y="4071960"/>
            <a:ext cx="1500480" cy="571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Melhorar a organização dos recursos huma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" name="Conexão recta unidireccional 66"/>
          <p:cNvCxnSpPr/>
          <p:nvPr/>
        </p:nvCxnSpPr>
        <p:spPr>
          <a:xfrm flipV="1">
            <a:off x="857160" y="3642840"/>
            <a:ext cx="3578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Rectângulo 50"/>
          <p:cNvSpPr/>
          <p:nvPr/>
        </p:nvSpPr>
        <p:spPr>
          <a:xfrm>
            <a:off x="47149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ângulo 51"/>
          <p:cNvSpPr/>
          <p:nvPr/>
        </p:nvSpPr>
        <p:spPr>
          <a:xfrm>
            <a:off x="60721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ângulo 52"/>
          <p:cNvSpPr/>
          <p:nvPr/>
        </p:nvSpPr>
        <p:spPr>
          <a:xfrm>
            <a:off x="7429680" y="4071960"/>
            <a:ext cx="128556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7" name="Conexão recta unidireccional 64"/>
          <p:cNvCxnSpPr/>
          <p:nvPr/>
        </p:nvCxnSpPr>
        <p:spPr>
          <a:xfrm flipV="1">
            <a:off x="5572080" y="371412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Conexão recta unidireccional 64"/>
          <p:cNvCxnSpPr/>
          <p:nvPr/>
        </p:nvCxnSpPr>
        <p:spPr>
          <a:xfrm flipV="1">
            <a:off x="6642720" y="37857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Conexão recta unidireccional 60"/>
          <p:cNvCxnSpPr/>
          <p:nvPr/>
        </p:nvCxnSpPr>
        <p:spPr>
          <a:xfrm flipH="1" flipV="1">
            <a:off x="7286040" y="3785760"/>
            <a:ext cx="286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Conexão recta unidireccional 64"/>
          <p:cNvCxnSpPr/>
          <p:nvPr/>
        </p:nvCxnSpPr>
        <p:spPr>
          <a:xfrm flipV="1">
            <a:off x="6714000" y="4571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Conexão recta unidireccional 64"/>
          <p:cNvCxnSpPr/>
          <p:nvPr/>
        </p:nvCxnSpPr>
        <p:spPr>
          <a:xfrm flipV="1">
            <a:off x="57862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"/>
          <p:cNvSpPr/>
          <p:nvPr/>
        </p:nvSpPr>
        <p:spPr>
          <a:xfrm>
            <a:off x="711360" y="387360"/>
            <a:ext cx="8127720" cy="7030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Uma árvore de problemas complex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056040" y="2114640"/>
            <a:ext cx="1609560" cy="623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Baixo nív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 actividad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219320" y="1324080"/>
            <a:ext cx="171900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sempre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5087880" y="1324080"/>
            <a:ext cx="232884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minui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os rendim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r capi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117440" y="2847960"/>
            <a:ext cx="1913040" cy="73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tores tradicion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 economia local 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nversã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782960" y="2805120"/>
            <a:ext cx="191484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poio insufic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à criação de nov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mpres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836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07196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291280" y="3749760"/>
            <a:ext cx="79668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6408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1836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07196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8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59007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68151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2946240" y="1687680"/>
            <a:ext cx="50832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 flipH="1">
            <a:off x="4062240" y="1741320"/>
            <a:ext cx="1019520" cy="36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 flipV="1">
            <a:off x="2031840" y="2425320"/>
            <a:ext cx="1016280" cy="42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4673520" y="2373480"/>
            <a:ext cx="111780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031840" y="358776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133720" y="3587760"/>
            <a:ext cx="1440" cy="15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2"/>
          <p:cNvSpPr/>
          <p:nvPr/>
        </p:nvSpPr>
        <p:spPr>
          <a:xfrm>
            <a:off x="5689440" y="3533760"/>
            <a:ext cx="1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23"/>
          <p:cNvSpPr/>
          <p:nvPr/>
        </p:nvSpPr>
        <p:spPr>
          <a:xfrm flipH="1">
            <a:off x="4671720" y="3533760"/>
            <a:ext cx="307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24"/>
          <p:cNvSpPr/>
          <p:nvPr/>
        </p:nvSpPr>
        <p:spPr>
          <a:xfrm>
            <a:off x="6400800" y="3533760"/>
            <a:ext cx="40644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5"/>
          <p:cNvSpPr/>
          <p:nvPr/>
        </p:nvSpPr>
        <p:spPr>
          <a:xfrm>
            <a:off x="2235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2641680" y="4219560"/>
            <a:ext cx="182880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6807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 flipH="1">
            <a:off x="6297480" y="5170320"/>
            <a:ext cx="30816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6807240" y="5170320"/>
            <a:ext cx="6094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os Fonseca</dc:creator>
  <dc:description/>
  <dc:language>en-US</dc:language>
  <cp:lastModifiedBy>Cajó</cp:lastModifiedBy>
  <dcterms:modified xsi:type="dcterms:W3CDTF">2009-02-27T12:42:40Z</dcterms:modified>
  <cp:revision>525</cp:revision>
  <dc:subject/>
  <dc:title>Introdução às Políticas Agrárias</dc:title>
</cp:coreProperties>
</file>